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F9E-50E3-424F-96B1-6D0501A3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2DA-ABF6-49E2-84B6-F8BBAA0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725-6264-4012-934F-076ACCAB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AD1-71A7-4AB9-93C2-3B0F1591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9108-D4E2-4532-B147-10FBAA31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FDF6-DA5F-4888-AB92-4631757A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04A-8F6E-449C-BC2C-E9A5DAE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1294-63A0-4BDB-9F91-93AD419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D6C5-BE29-4917-B2EF-876F158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2B1B-F68B-4300-B0B6-EBFA8A1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05AB-0F56-42B3-94F0-D1ABA5DC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F22-8F30-4C9B-8640-B0D52E7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D99-3F7F-4121-B7C4-BD42CCA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2E7-2546-4C20-9606-5EB3C39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7399-C1CB-455B-8F4B-58AA37DA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0B4-807E-41ED-8D20-F1141409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5AD-FF42-46CD-90BD-C2EA6565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D72-57A2-4E90-89C1-F51C283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189-7F19-4327-9BCA-64E8AE7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DF0-2306-49F9-A335-5775C30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F3E-746A-4903-9E57-3F05518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896-A631-46DD-9F80-0AB69F3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A8D-8B17-4298-8B4C-4928512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80F-606E-4CC4-9D0C-50E9E1D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-22337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-22337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0C1-6EEA-4156-BD32-1E0C175750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-22337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-22337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BF9-EDA8-4635-9BE9-BBC81DD1AFD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727236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2b41"/>
                </a:solidFill>
                <a:latin typeface="Times New Roman"/>
              </a:rPr>
              <a:t>Физические и химические явления.  Признаки химических реакций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                                     Подготовила</a:t>
            </a:r>
            <a:br>
              <a:rPr sz="2400"/>
            </a:b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 учитель химии и биологии </a:t>
            </a:r>
            <a:br>
              <a:rPr sz="2400"/>
            </a:b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Нелепова И.М. </a:t>
            </a:r>
            <a:br>
              <a:rPr sz="2000"/>
            </a:b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763640" y="54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914"/>
                </a:solidFill>
                <a:latin typeface="Times New Roman"/>
              </a:rPr>
              <a:t>МБОУ Холмогойская СОШ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2643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560" y="189000"/>
            <a:ext cx="813780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верь себ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Группа  1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1.  Взаимодействие соды  (карбонат натрия) с соляной кислотой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 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ыделение газа 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2. Взаимодействие хлорида меди с железом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изменение окраски гвоздя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Группа 2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1. Взаимодействие  бесцветного раствора  гидроксида  натрия с  голубым раствором         сульфата меди (II). 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ыпадение осадк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2. Взаимодействие соляной кислоты и цинк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ыделение газ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Группа  3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1. Взаимодействие раствора нитрата бария с раствором суперфосфата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                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появление желтой окраски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2914"/>
                </a:solidFill>
                <a:latin typeface="Arial"/>
              </a:rPr>
              <a:t>2. 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Взаимодействие серной кислоты и нитрата бария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2914"/>
                </a:solidFill>
                <a:latin typeface="Times New Roman"/>
              </a:rPr>
              <a:t>О том,  что произошла химическая реакции свидетельствует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ыпадение осадка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Закрепление изученного материала (работа с карточками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76000" y="1055160"/>
            <a:ext cx="7488360" cy="53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914"/>
                </a:solidFill>
                <a:uFillTx/>
                <a:latin typeface="Times New Roman"/>
              </a:rPr>
              <a:t>1.Из перечисленных явлений, выберите физическое,  объясните почему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1 - А) Таяние снега, горение дров, переваривание пищи в желудке, образование зеленого налета на медных изделиях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1 - Б) Высыхание мокрого белья, почернение серебряной ложки, гниение листвы</a:t>
            </a:r>
            <a:r>
              <a:rPr b="0" i="1" lang="ru-RU" sz="2000" spc="-1" strike="noStrike">
                <a:solidFill>
                  <a:srgbClr val="002914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образование туман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1- В) Горение бенгальских огней, скисание молока,  образование инея на траве, плавление стекл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2914"/>
                </a:solidFill>
                <a:uFillTx/>
                <a:latin typeface="Times New Roman"/>
              </a:rPr>
              <a:t>2. Из перечисленных явлений,  выберите химическое, объясните почему</a:t>
            </a:r>
            <a:r>
              <a:rPr b="0" i="1" lang="ru-RU" sz="2000" spc="-1" strike="noStrike">
                <a:solidFill>
                  <a:srgbClr val="002914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2 - А) Ржавление железа, горение угля, замерзание воды, пригорание масла во время приготовления пищи</a:t>
            </a:r>
            <a:r>
              <a:rPr b="0" i="1" lang="ru-RU" sz="2000" spc="-1" strike="noStrike">
                <a:solidFill>
                  <a:srgbClr val="002914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2 - Б) Получение порошка из куска мела, горение бензина, разрушение мраморной скульптуры под действием кислотных дождей, звонок будильник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2- В) Горение свечи, высыхание дождевых луж, дыхание растений, распространение запаха дух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роверь себя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76360" y="1052640"/>
            <a:ext cx="741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914"/>
                </a:solidFill>
                <a:uFillTx/>
                <a:latin typeface="Times New Roman"/>
              </a:rPr>
              <a:t>1.Из перечисленных явлений, выберите физическое,  объясните почему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А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яние снега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Б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ысыхание мокрого белья</a:t>
            </a: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бразование тумана</a:t>
            </a: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В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бразование инея на траве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лавление стекл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914"/>
                </a:solidFill>
                <a:uFillTx/>
                <a:latin typeface="Times New Roman"/>
              </a:rPr>
              <a:t>2. Из перечисленных явлений,  выберите химическое, объясните почему</a:t>
            </a:r>
            <a:r>
              <a:rPr b="1" i="1" lang="ru-RU" sz="1800" spc="-1" strike="noStrike">
                <a:solidFill>
                  <a:srgbClr val="002914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А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Ржавление желез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орение угл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игорание масла во время приготовления пищ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Б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орение бензин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разрушение мраморной скульптуры под действием кислотных дожд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2914"/>
                </a:solidFill>
                <a:latin typeface="Times New Roman"/>
              </a:rPr>
              <a:t>В)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орение свечи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дыхание растени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6560" y="247320"/>
            <a:ext cx="6265800" cy="16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914"/>
                </a:solidFill>
                <a:latin typeface="Times New Roman"/>
              </a:rPr>
              <a:t>Рефлексия</a:t>
            </a:r>
            <a:br>
              <a:rPr sz="7200"/>
            </a:b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92360" y="1915920"/>
            <a:ext cx="69832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</a:rPr>
              <a:t>Продолжите предложение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</a:rPr>
              <a:t>1. Теперь я знаю, что  …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</a:rPr>
              <a:t>2. Теперь я знаю, как  …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</a:rPr>
              <a:t>3. Теперь я умею…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</a:rPr>
              <a:t>4. Меня удивило…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489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в учебнике стр 24, рубрика «Подумай,  ответь, выполни» № 2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творческое задание: найти стихи, загадки, пословицы о химических и физических явлениях, оформить в виде постера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Дополнительное задание: составить синквейн со словом явление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3640" y="247320"/>
            <a:ext cx="63356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Garamond"/>
              </a:rPr>
              <a:t>Всем спасибо за сотрудничество и плодотворный труд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427640" y="2451240"/>
            <a:ext cx="3529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47280" y="764640"/>
            <a:ext cx="727236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914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914"/>
                </a:solidFill>
                <a:latin typeface="Times New Roman"/>
              </a:rPr>
              <a:t>«Химии никоим образом научиться невозможно, не видав самой практики и, не принимаясь за химические операции»</a:t>
            </a:r>
            <a:r>
              <a:rPr b="1" lang="ru-RU" sz="4000" spc="-1" strike="noStrike">
                <a:solidFill>
                  <a:srgbClr val="00291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914"/>
                </a:solidFill>
                <a:latin typeface="Arial"/>
              </a:rPr>
              <a:t>            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914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914"/>
                </a:solidFill>
                <a:latin typeface="Times New Roman"/>
              </a:rPr>
              <a:t>(М.В. Ломоносов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01880" y="182520"/>
            <a:ext cx="2530440" cy="3737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https://avatars.mds.yandex.net/get-zen_doc/901899/pub_5e6c8c2153be0d0a19b22867_5e6c9a5e53be0d0a19b22957/scale_1200"/>
          <p:cNvPicPr/>
          <p:nvPr/>
        </p:nvPicPr>
        <p:blipFill>
          <a:blip r:embed="rId2"/>
          <a:stretch/>
        </p:blipFill>
        <p:spPr>
          <a:xfrm>
            <a:off x="5003640" y="6206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https://penzasmi.ru/images/uploads/48616c2a0a74a65662ca9b2570b73d84.jpg"/>
          <p:cNvPicPr/>
          <p:nvPr/>
        </p:nvPicPr>
        <p:blipFill>
          <a:blip r:embed="rId3"/>
          <a:stretch/>
        </p:blipFill>
        <p:spPr>
          <a:xfrm>
            <a:off x="3564000" y="4005360"/>
            <a:ext cx="367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914"/>
                </a:solidFill>
                <a:latin typeface="Times New Roman"/>
              </a:rPr>
              <a:t>Цел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0160" y="167652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Arial"/>
              </a:rPr>
              <a:t>Выяснить чем отличаются физические и химические явле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Arial"/>
              </a:rPr>
              <a:t>Изучить на практике признаки химических реакций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аблица 6" descr=""/>
          <p:cNvPicPr/>
          <p:nvPr/>
        </p:nvPicPr>
        <p:blipFill>
          <a:blip r:embed="rId1"/>
          <a:stretch/>
        </p:blipFill>
        <p:spPr>
          <a:xfrm>
            <a:off x="3273480" y="401760"/>
            <a:ext cx="4614840" cy="103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79640" y="2349360"/>
          <a:ext cx="3240000" cy="9208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r>
                        <a:rPr b="0" lang="ru-RU" sz="4400" spc="-1" strike="noStrike">
                          <a:solidFill>
                            <a:srgbClr val="004db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ab5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51640" y="2349360"/>
          <a:ext cx="3168360" cy="9208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4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ab5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7640" y="3933720"/>
          <a:ext cx="3888000" cy="230364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91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явление, которое не сопровождается образованием новых веществ, оно проявляется в изменении агрегатного состояния вещества</a:t>
                      </a:r>
                      <a:r>
                        <a:rPr b="1" lang="ru-RU" sz="24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  его формы</a:t>
                      </a:r>
                      <a:r>
                        <a:rPr b="1" lang="ru-RU" sz="16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,  </a:t>
                      </a:r>
                      <a:r>
                        <a:rPr b="1" lang="ru-RU" sz="20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размера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651640" y="3933720"/>
          <a:ext cx="3313080" cy="230364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914"/>
                          </a:solidFill>
                          <a:latin typeface="Times New Roman"/>
                          <a:ea typeface="Times New Roman"/>
                        </a:rPr>
                        <a:t>явление, в результате которого происходит образование нового вещества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69120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Задание.    </a:t>
            </a:r>
            <a:r>
              <a:rPr b="0" lang="ru-RU" sz="2400" spc="-1" strike="noStrike">
                <a:solidFill>
                  <a:srgbClr val="002914"/>
                </a:solidFill>
                <a:latin typeface="Times New Roman"/>
              </a:rPr>
              <a:t> Распределите данные явления на физические и химические </a:t>
            </a:r>
            <a:br>
              <a:rPr sz="2400"/>
            </a:b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557360"/>
            <a:ext cx="68403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1.  изменение окраски листье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2. горение свеч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3. горение свеч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4.  извержение вулкан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5. подъем дрожжевого теста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6. замерзание воды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7. плавление  металл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8. ржавление желез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9. измельчение стекл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14"/>
                </a:solidFill>
                <a:latin typeface="Times New Roman"/>
              </a:rPr>
              <a:t>10. скисание моло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24732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341000"/>
            <a:ext cx="33462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Физические явле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Горение свеч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Замерзание вод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Плавление металл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Измельчение стекл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716360" y="1413000"/>
            <a:ext cx="41036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914"/>
                </a:solidFill>
                <a:latin typeface="Times New Roman"/>
              </a:rPr>
              <a:t>Химические явления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Изменение окраски листьев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Горение свечи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Извержение вулкан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Подъем дрожжевого тест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Ржавление желез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914"/>
                </a:solidFill>
                <a:latin typeface="Times New Roman"/>
              </a:rPr>
              <a:t>Скисание молок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247320"/>
            <a:ext cx="698508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914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19280" y="1125360"/>
            <a:ext cx="7129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структаж по технике безопасност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приступать к работе только с разрешения учителя;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при выполнении работы соблюдать четкость, собранность, внимание и предельную аккуратность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все манипуляции проводить над столом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нельзя пробовать вещества на вкус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запрещается брать вещества руками. Жидкие реактивы отбирать с помощью пипетки, сухие вещества брать шпателем ил ложечкой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использовать строго определенное количество веществ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- о разлитых и рассыпанных реактивах сразу же сообщать учителю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содержать рабочее место в чистоте и порядке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9964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914"/>
                </a:solidFill>
                <a:latin typeface="Times New Roman"/>
                <a:ea typeface="Times New Roman"/>
              </a:rPr>
              <a:t>Задания для групповой работы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Группа 1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соды  (карбонат натрия) с соляной кислотой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хлорида меди с железом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Записать какой признак свидетельствует о протекании      химической реакции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Группа  2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 бесцветного раствора  гидроксида  натрия         с  голубым раствором сульфата меди (II)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соляной кислоты и цинк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Записать какой признак свидетельствует о протекании  химической реакции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Группа  3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раствора нитрата бария с раствором   суперфосфата.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заимодействие серной кислоты и нитрата бари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Записать какой признак свидетельствует о протекании химической реакции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4" name="Picture 6" descr="human125"/>
          <p:cNvPicPr/>
          <p:nvPr/>
        </p:nvPicPr>
        <p:blipFill>
          <a:blip r:embed="rId1"/>
          <a:stretch/>
        </p:blipFill>
        <p:spPr>
          <a:xfrm>
            <a:off x="7524720" y="5300640"/>
            <a:ext cx="14018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39:50Z</dcterms:created>
  <dc:creator>Панова</dc:creator>
  <dc:description/>
  <dc:language>en-US</dc:language>
  <cp:lastModifiedBy>ыукр</cp:lastModifiedBy>
  <dcterms:modified xsi:type="dcterms:W3CDTF">2022-02-21T05:00:23Z</dcterms:modified>
  <cp:revision>186</cp:revision>
  <dc:subject/>
  <dc:title>Проекты и целевые программы как основные механизмы изменений</dc:title>
</cp:coreProperties>
</file>